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A5D-2A45-4B7B-911C-59B93472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F6B-63FA-4D60-8231-172A5E6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2FE-8AA7-4818-AD43-A8453679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AB2-D14B-4023-B515-5D4D4BC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5A7-0370-4804-A9E1-4011BC12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D96-316E-40C0-B44D-D540E367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3CB-0B35-48FD-B8AB-07F9081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589-61A3-4DA0-A852-6DE3C4A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147-16EE-4C97-9397-156B2C40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4A4-FFD2-44D8-9A4E-AB7C01C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40F-01B7-44A3-BA44-D4F18DC1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A66-3FC6-4DEF-8DC9-CC78D591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0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9DC-FCB9-4806-B9F5-E9EE62CE149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30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FALL: THE WESTERN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GLOBAL AGE (SINCE 19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stern Europe and the Search for Unity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cques Ch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5 Muslim ri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ove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colas Sarko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vio Berlusc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o Pr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Unification of Europ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an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Europ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y on 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ion on the worl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 of national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2007, EU to 455 million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The United States: Move to the Center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769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H.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 of economic revi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nd term impe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 in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h tax 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an Mulroney (b. 1939), elected in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é Léves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 Québéc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WCB3e_unm29"/>
          <p:cNvPicPr/>
          <p:nvPr/>
        </p:nvPicPr>
        <p:blipFill>
          <a:blip r:embed="rId1"/>
          <a:stretch/>
        </p:blipFill>
        <p:spPr>
          <a:xfrm>
            <a:off x="1447920" y="1066680"/>
            <a:ext cx="6705360" cy="5605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 rot="16200000">
            <a:off x="-1069920" y="3635640"/>
            <a:ext cx="5083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2003 Wadsworth, a division of Thomson Learning, Inc.  Thomson Learning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bec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End of the Cold War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 Trea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hrow of Communist reg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lf W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q forces in Ku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World Order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 Age of Terroris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nich Olympic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rorist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Army 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Brigad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les Martel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estinian terro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n American flight 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Terrorist Attack on the United State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968120"/>
            <a:ext cx="7769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11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-Qa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ama bin 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S.S. C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ghan and U.S. special forces ousted The Taliban in Afghanistan i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multiethnic government faced problems from renewed Taliban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ar in Iraq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837720"/>
            <a:ext cx="7769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3, largely American-led forces invaded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qi army was quickly def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ied forces sought to restore stability to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ting forth plans to lay the foundations of a future democrati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ddam Hussein captured, tried and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2006, violence had increased dramatically and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7, President Bush increased the number of U.S.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ops loss decrease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he West and Isla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raeli-Palestinian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hah of I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yatollah Khome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forces in the Middle East considered an affront to Islam by anti-Western Islam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New Directions in Western Socie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ormation in Women’s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thrates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man in workforce on the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men’s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ment in Environmental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m is growing in Europe and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oward a New Western Ord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olutionary Era in the Soviet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 of the Soviet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ris Yelt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wealth of Independe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in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ladimir Pu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Art and Music in the 1980s and 1990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u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qu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s Serrano and Robert Mapplethor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Endowment for th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nge, Rap and Hip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ular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 an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 Vi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thew 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oward a Global Civi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205884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on Tariffs and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Trad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oward a Global Civilization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5876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gration and developed and developin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M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globally, act locally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government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as the impact of Mikhail Gorbachev’s reforms on the Soviet Union? Was he its savior or its destro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re the chief obstacles in the reunification of Germany? How were these obstacles res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has terrorism changed over the last two decades? What forces brought about these ch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e the debate over global warming. Defend and refute each side of the deb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eblink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600200"/>
            <a:ext cx="776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adimir Pu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stav Hus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rlin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olas Sarko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WCB3e_m29"/>
          <p:cNvPicPr/>
          <p:nvPr/>
        </p:nvPicPr>
        <p:blipFill>
          <a:blip r:embed="rId1"/>
          <a:stretch/>
        </p:blipFill>
        <p:spPr>
          <a:xfrm>
            <a:off x="1219320" y="1371600"/>
            <a:ext cx="79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6200000">
            <a:off x="-959760" y="37911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ew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82400"/>
                </a:solidFill>
                <a:latin typeface="Times New Roman"/>
              </a:rPr>
              <a:t>Eastern Europe: The Revolutions of 1989</a:t>
            </a:r>
            <a:br>
              <a:rPr sz="3000"/>
            </a:br>
            <a:r>
              <a:rPr b="1" lang="en-US" sz="3000" spc="-1" strike="noStrike">
                <a:solidFill>
                  <a:srgbClr val="482400"/>
                </a:solidFill>
                <a:latin typeface="Times New Roman"/>
              </a:rPr>
              <a:t>and the Collapse of the Communist Order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6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hWal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echoslova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stav Husa´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clav H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colae Ceaus¸es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the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WCB3e_unm29"/>
          <p:cNvPicPr/>
          <p:nvPr/>
        </p:nvPicPr>
        <p:blipFill>
          <a:blip r:embed="rId1"/>
          <a:stretch/>
        </p:blipFill>
        <p:spPr>
          <a:xfrm>
            <a:off x="1066680" y="609480"/>
            <a:ext cx="5791320" cy="57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 rot="16199400">
            <a:off x="-993240" y="42559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echny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Reunification of Germany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ich Hon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ll must go!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t Germany free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18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al reun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ober 3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Berlin Wall 1961 -1989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5" descr="berlin_wall"/>
          <p:cNvPicPr/>
          <p:nvPr/>
        </p:nvPicPr>
        <p:blipFill>
          <a:blip r:embed="rId1"/>
          <a:stretch/>
        </p:blipFill>
        <p:spPr>
          <a:xfrm>
            <a:off x="17524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isintegration of Yugoslavi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venia, Croatia, Bosnia-Herzegovina, and Maced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in Bos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nic cleansing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re at Srebre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in Koso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sovo Liberation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islav Kostu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O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estern Europe and the Search for Uni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many Re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mut K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istian Democr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si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hard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-Thatcher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ur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rdon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3-04-23T11:06:23Z</dcterms:modified>
  <cp:revision>186</cp:revision>
  <dc:subject/>
  <dc:title>Chapter 29</dc:title>
</cp:coreProperties>
</file>